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141-5563-46CE-8977-968766B9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A91-E897-4013-A240-186053A5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4F1-4F2B-47DF-86EC-816D9252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10C-1B02-456E-8243-415EF1CC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1FD-70A2-4A3D-8AA7-9E280AB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D5F-C866-4C4F-BDEE-45C4CAA2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B76-78B0-42D3-B43A-BB4D54C8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01E-3DF2-4F18-8CA7-FE57003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3C6-D4EE-4F30-9864-2A277EB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E82-8DB4-4AC0-9CF5-A45C5D9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99A-7539-4666-81EF-8C25672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8CC-3A52-4352-B118-99F1EC3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lonna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lonna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lonna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lonna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lonna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E5B4-A8DA-4357-9920-3EA10F29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Mental Tough</a:t>
            </a:r>
            <a:endParaRPr b="0" lang="en-US" sz="7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91320" y="441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4920" y="4419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00400" y="243828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Acknowledgment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Mrs. Rowland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Her clas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idan Crosby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Kash Farney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Layne Tommer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Question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What does the way you talk to people affect how they act?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 predict that the stricter you are the more people will listen.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Material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Gym Clas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aper/Pencil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Go to P.E.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ell Mrs. Rowland to help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he yell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n she picks us up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ndependent Variable-yelling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Dependent Variable- Way the teacher talk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Controlled Variable- 8th grade class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Results for Normal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Messing around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Talking while he is talking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He says things twice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Has to get strict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Kids leave class without permission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Dont pick stuff up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lonna MT"/>
              </a:rPr>
              <a:t>I think they were like this because he didnt enforce anything.</a:t>
            </a: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Results for Aggressive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Listen better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Complain sometimes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ct better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No repeating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rgue more with teacher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 think they did this because they got mad at the teache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olonna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My hypothesis was correct. The kids listened better. They had more physical punishment so they listened. </a:t>
            </a:r>
            <a:endParaRPr b="0" lang="en-US" sz="3200" spc="-1" strike="noStrike">
              <a:solidFill>
                <a:srgbClr val="ffffff"/>
              </a:solidFill>
              <a:latin typeface="Colonna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19:48Z</dcterms:created>
  <dc:creator>STERLING  USD376</dc:creator>
  <dc:description/>
  <dc:language>en-US</dc:language>
  <cp:lastModifiedBy>USD376</cp:lastModifiedBy>
  <dcterms:modified xsi:type="dcterms:W3CDTF">2010-02-12T16:19:57Z</dcterms:modified>
  <cp:revision>6</cp:revision>
  <dc:subject/>
  <dc:title>Mental Tough</dc:title>
</cp:coreProperties>
</file>